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uskelzell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T-Aktivitä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1440" y="54936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LT-Aktivitä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3080" y="6396840"/>
            <a:ext cx="31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T = Alanin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3240" y="549360"/>
            <a:ext cx="40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T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eber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3"/>
            <a:endCxn id="10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ronische Hep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IP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elluläres Karzinom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ische Lipid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NSAID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kundär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durch Hyperthyreos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480" y="5666760"/>
            <a:ext cx="38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ALT = Alanin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NSAIDs = nicht-steroidale Antiphlogistika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uskelzell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31760" y="549360"/>
            <a:ext cx="50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T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assive Muskel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kalä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olymyopath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3080" y="6396840"/>
            <a:ext cx="31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T = Alanin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4T16:44:20Z</dcterms:modified>
  <cp:revision>332</cp:revision>
  <dc:subject/>
  <dc:title>Vorstellung einer Neuheit</dc:title>
</cp:coreProperties>
</file>